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1.emf" ContentType="image/x-emf"/>
  <Override PartName="/ppt/charts/_rels/chart1.xml.rels" ContentType="application/vnd.openxmlformats-package.relationships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drawings/_rels/drawing1.xml.rels" ContentType="application/vnd.openxmlformats-package.relationships+xml"/>
  <Override PartName="/ppt/drawings/drawing1.xml" ContentType="application/vnd.openxmlformats-officedocument.drawingml.chartshape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charts/_rels/chart1.xml.rels><?xml version="1.0" encoding="UTF-8"?>
<Relationships xmlns="http://schemas.openxmlformats.org/package/2006/relationships"><Relationship Id="rId1" Type="http://schemas.openxmlformats.org/officeDocument/2006/relationships/chartUserShapes" Target="../drawings/drawing1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1 colonne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gne 1</c:v>
                </c:pt>
                <c:pt idx="1">
                  <c:v>Ligne 2</c:v>
                </c:pt>
                <c:pt idx="2">
                  <c:v>Ligne 3</c:v>
                </c:pt>
                <c:pt idx="3">
                  <c:v>Ligne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 colonne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gne 1</c:v>
                </c:pt>
                <c:pt idx="1">
                  <c:v>Ligne 2</c:v>
                </c:pt>
                <c:pt idx="2">
                  <c:v>Ligne 3</c:v>
                </c:pt>
                <c:pt idx="3">
                  <c:v>Ligne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3 colonne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gne 1</c:v>
                </c:pt>
                <c:pt idx="1">
                  <c:v>Ligne 2</c:v>
                </c:pt>
                <c:pt idx="2">
                  <c:v>Ligne 3</c:v>
                </c:pt>
                <c:pt idx="3">
                  <c:v>Ligne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4183"/>
        <c:axId val="5115661"/>
      </c:barChart>
      <c:catAx>
        <c:axId val="932418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5661"/>
        <c:crosses val="autoZero"/>
        <c:auto val="1"/>
        <c:lblAlgn val="ctr"/>
        <c:lblOffset val="100"/>
        <c:noMultiLvlLbl val="0"/>
      </c:catAx>
      <c:valAx>
        <c:axId val="5115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4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  <c:userShapes r:id="rId1"/>
</c:chartSpace>
</file>

<file path=ppt/drawings/_rels/drawing1.xml.rels><?xml version="1.0" encoding="UTF-8"?>
<Relationships xmlns="http://schemas.openxmlformats.org/package/2006/relationships"><Relationship Id="rId1" Type="http://schemas.openxmlformats.org/officeDocument/2006/relationships/image" Target="../media/image11.emf"/>
</Relationships>
</file>

<file path=ppt/drawings/drawing1.xml><?xml version="1.0" encoding="utf-8"?>
<c:userShapes xmlns:cdr="http://schemas.openxmlformats.org/drawingml/2006/chartDrawing" xmlns:a="http://schemas.openxmlformats.org/drawingml/2006/main" xmlns:c="http://schemas.openxmlformats.org/drawingml/2006/chart" xmlns:r="http://schemas.openxmlformats.org/officeDocument/2006/relationships">
  <cdr:relSizeAnchor>
    <cdr:from>
      <cdr:x>0</cdr:x>
      <cdr:y>0</cdr:y>
    </cdr:from>
    <cdr:to>
      <cdr:x>0.994896551724138</cdr:x>
      <cdr:y>0.997</cdr:y>
    </cdr:to>
    <cdr:pic>
      <cdr:nvPicPr>
        <cdr:cNvPr id="84" name="" descr=""/>
        <cdr:cNvPicPr/>
      </cdr:nvPicPr>
      <cdr:blipFill>
        <a:blip r:embed="rId1"/>
        <a:stretch/>
      </cdr:blipFill>
      <cdr:spPr>
        <a:xfrm>
          <a:off x="0" y="0"/>
          <a:ext cx="5193360" cy="2871360"/>
        </a:xfrm>
        <a:prstGeom prst="rect">
          <a:avLst/>
        </a:prstGeom>
        <a:ln w="0">
          <a:noFill/>
        </a:ln>
      </cdr:spPr>
    </cdr:pic>
  </cdr:relSizeAnchor>
</c:userShap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957-E665-4999-A32E-2351DD9F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06F-F224-475F-8480-36BB1A9C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5EE6-B132-4811-A42E-1CA49937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E63B-5A4E-449C-A4A0-249BF97B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342C-5E92-4A79-88E7-95EA5248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596-7FE1-491B-AA50-F1107927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ED5-5B2B-40AB-9820-0E661365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0B80-8BC8-4354-B6F5-F37057FE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B41-047A-4ACA-8CBC-EB9F1FE8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195-2525-48C6-AFA8-7FB1CA9C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F8C5-D5C9-405E-ABCC-0F95516D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9115-F8DE-4526-A884-428176E9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5D536-5097-4C6D-AB96-12CE3E1113A1}" type="slidenum">
              <a:rPr b="0" lang="fr-C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382680"/>
            <a:ext cx="90709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Solving Biological Problems that require Math</a:t>
            </a:r>
            <a:br>
              <a:rPr sz="3200"/>
            </a:b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Gradient Formation for the Cell Size in Fission Yeast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9280" y="2519280"/>
            <a:ext cx="5759280" cy="3600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4000" y="2339640"/>
            <a:ext cx="36356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2600" spc="-1" strike="noStrike">
                <a:solidFill>
                  <a:srgbClr val="000000"/>
                </a:solidFill>
                <a:latin typeface="Calibri"/>
              </a:rPr>
              <a:t>Men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Sascha Dales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2600" spc="-1" strike="noStrike">
                <a:solidFill>
                  <a:srgbClr val="000000"/>
                </a:solidFill>
                <a:latin typeface="Calibri"/>
              </a:rPr>
              <a:t>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Johan Merç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Fabien Delapier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Lucas Degrugilli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9280" y="6267600"/>
            <a:ext cx="57592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Olivier Hachet, DMF, UNI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020600"/>
            <a:ext cx="907092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079640"/>
            <a:ext cx="907092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440000"/>
            <a:ext cx="9070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2600" spc="-1" strike="noStrike">
                <a:solidFill>
                  <a:srgbClr val="000000"/>
                </a:solidFill>
                <a:latin typeface="Calibri"/>
              </a:rPr>
              <a:t>Coordinated by 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Sven Bergman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Mathema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2519280"/>
            <a:ext cx="907092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Traiter les données d'imageJ et définir des profils d'ex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Comparer les profils retournés par le Plug-in avec les nôt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Validation du Plug-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280" y="4375080"/>
            <a:ext cx="907092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Données « à la main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800360"/>
            <a:ext cx="907092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1ère étape pour les données « à la main » 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Moyenne des 5 im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Soustraction de la valeur du backg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30360" y="4002120"/>
            <a:ext cx="521964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Comparaison avec le plug-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717560"/>
            <a:ext cx="9070920" cy="33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Transformer les données pour les rendre comparables 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Origine de l'axe des x diffé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Taille de l'axe des x diffé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0360" y="4002120"/>
            <a:ext cx="521964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Les résul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1200240"/>
            <a:ext cx="8460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Profils Plug-in systématiquement moins élevés 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114720" y="2008080"/>
            <a:ext cx="431964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2430360" y="4464000"/>
          <a:ext cx="521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La su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2436480"/>
            <a:ext cx="9070920" cy="31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Confirmer le Plug-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Analyses statistiques sur plusieurs prof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Définir un modèle mathématique à l'aide d'équations différentiel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Con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Étude sur les mécanismes de contrôle et d'entrée en mitose de la levure S. Pombe menée par le groupe de recherche du Professeur Sophie Mart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Deux articles parus dans </a:t>
            </a:r>
            <a:r>
              <a:rPr b="0" i="1" lang="fr-CH" sz="2600" spc="-1" strike="noStrike">
                <a:solidFill>
                  <a:srgbClr val="000000"/>
                </a:solidFill>
                <a:latin typeface="Calibri"/>
              </a:rPr>
              <a:t>Cell 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CH" sz="2600" spc="-1" strike="noStrike">
                <a:solidFill>
                  <a:srgbClr val="000000"/>
                </a:solidFill>
                <a:latin typeface="Calibri"/>
              </a:rPr>
              <a:t>N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4500720"/>
            <a:ext cx="907092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Martin SG and Berthelot-Grosjean M. </a:t>
            </a:r>
            <a:r>
              <a:rPr b="0" i="1" lang="fr-CH" sz="2000" spc="-1" strike="noStrike">
                <a:solidFill>
                  <a:srgbClr val="000000"/>
                </a:solidFill>
                <a:latin typeface="Calibri"/>
              </a:rPr>
              <a:t>« Polar gradients of the DYRK-family kinase Pom1 couple cell length with the cell cycle »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000" spc="-1" strike="noStrike" u="sng">
                <a:solidFill>
                  <a:srgbClr val="000000"/>
                </a:solidFill>
                <a:uFillTx/>
                <a:latin typeface="Calibri"/>
              </a:rPr>
              <a:t>2009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Nature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459: 85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Hachet O. &amp; al. « A</a:t>
            </a:r>
            <a:r>
              <a:rPr b="0" i="1" lang="fr-CH" sz="2000" spc="-1" strike="noStrike">
                <a:solidFill>
                  <a:srgbClr val="000000"/>
                </a:solidFill>
                <a:latin typeface="Calibri"/>
              </a:rPr>
              <a:t> phosphorylation cycle shapes gradients of the DYRK-family kinase Pom1 at the plasma membrane »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000" spc="-1" strike="noStrike" u="sng">
                <a:solidFill>
                  <a:srgbClr val="000000"/>
                </a:solidFill>
                <a:uFillTx/>
                <a:latin typeface="Calibri"/>
              </a:rPr>
              <a:t>2011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Cell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145: 1116-11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Aspect Biolo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Identification du rôle de la protéine pom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Forme gradient cortical et intracellulaire servant à mesurer la taille de la cellule et permet à la levure de contrôler l'entrée en mit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00360" y="3959280"/>
            <a:ext cx="4859280" cy="2879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00360" y="6840360"/>
            <a:ext cx="485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1500" spc="-1" strike="noStrike">
                <a:solidFill>
                  <a:srgbClr val="000000"/>
                </a:solidFill>
                <a:latin typeface="Arial"/>
              </a:rPr>
              <a:t>Pom1-GFP</a:t>
            </a:r>
            <a:br>
              <a:rPr sz="1500"/>
            </a:b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Olivier Hachet, DMF, UNI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60000" y="2340000"/>
            <a:ext cx="41403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Interaction de pom1 avec cdr2 inhibe l'entrée en mit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Pom1 prévient l'entrée prématurée en mitose des cellules de petite tai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94400" y="1260360"/>
            <a:ext cx="5205240" cy="3780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6000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Rôle de Pom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00720" y="5040360"/>
            <a:ext cx="3779640" cy="161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859280" y="6796080"/>
            <a:ext cx="4859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SG Matin &amp; M Berthelot-Gorsjean </a:t>
            </a:r>
            <a:r>
              <a:rPr b="0" i="1" lang="fr-CH" sz="15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 459 (200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Formation du gradient</a:t>
            </a:r>
            <a:br>
              <a:rPr sz="3200"/>
            </a:b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Cycle de phosphorylation de Pom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0360" y="1979640"/>
            <a:ext cx="9360000" cy="4668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47640" y="6478560"/>
            <a:ext cx="90709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Olivier Hachet &amp; al. </a:t>
            </a:r>
            <a:r>
              <a:rPr b="0" i="1" lang="fr-CH" sz="1500" spc="-1" strike="noStrike">
                <a:solidFill>
                  <a:srgbClr val="000000"/>
                </a:solidFill>
                <a:latin typeface="Arial"/>
              </a:rPr>
              <a:t>Cell</a:t>
            </a: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 145 (201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But du pro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61928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Mieux comprendre le mécanisme de diffusion de Pom1 le long de la membr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Établir un modèle mathématique permettant de décrire la formation du gradi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Développ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Trois étapes 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Extraction de données (Image J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Analyse de données (Mathemati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Modélisation (matla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Extraction d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2339640"/>
            <a:ext cx="9070920" cy="36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Utilisation d'Image J pour extraire des données numériques des im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Le gradient de pom1-GFP est exprimé en niveaux de gr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La concentration de GFP est proportionnelle à l'intensit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28720" y="539640"/>
            <a:ext cx="6551640" cy="2880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28720" y="4140360"/>
            <a:ext cx="65516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4T12:16:15Z</dcterms:created>
  <dc:creator/>
  <dc:description/>
  <dc:language>en-US</dc:language>
  <cp:lastModifiedBy>Fabien Delapierre</cp:lastModifiedBy>
  <dcterms:modified xsi:type="dcterms:W3CDTF">2012-03-29T20:43:58Z</dcterms:modified>
  <cp:revision>51</cp:revision>
  <dc:subject/>
  <dc:title/>
</cp:coreProperties>
</file>